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1495-E92F-4F7E-9F5E-4BA40F4A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525B-1C58-4F65-B344-F60B3D7D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75B3-E0F4-4853-B67F-C4014BA0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5C2A-7852-44C9-B55D-F9683E46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8EB-47E1-4B78-B43C-59D7E1B0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078-D844-4C72-B625-825559D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9D1-765A-4200-A63B-12BB8FD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380-7762-4C80-98F5-F3EE313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7254-4BA0-4F82-AA67-02F28F3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C1F-50AB-418A-9F3C-F33FA6E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D1E9-722D-4F75-8A55-1D54C81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ACF5-49F0-49A3-ADCE-714D3D5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F7B-9702-4EC3-976C-CDE3207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FE9-4941-4D7C-A833-4B76C73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6074-4D2C-44ED-B5EF-8D860A30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09C-C471-4C7B-AD72-566FF85E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75EF-D7B7-431F-867A-BFD0BE94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39EC-457C-4126-ACE6-784BF14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5517-54E0-48E9-B03E-D073FAC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8AE8-5101-4A86-BFF8-506D79AC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701B-13EE-457F-AE45-E14015A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6196-EB2B-4026-904D-A7B0349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E901-AA86-4E4C-96B4-E69C2CB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D2E5-A38A-4889-B4DB-309ACEB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0D0-46ED-413D-A2E2-EFCAB8AE0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CAF0-1154-4620-BEA8-FC7268267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0428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етский сад общеразвивающего вида с приоритетным осуществлением деятельности по художественно-эстетическому направлению развития воспитанников №12 «Журавлик»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989000"/>
            <a:ext cx="7920000" cy="389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Мы  рады встречи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0" y="1773360"/>
            <a:ext cx="9144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вигательное развитие, моторика рук, графические навыки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ет прямые горизонтальные и вертикальные линии, раскрашивает простые формы. Копирует заглавные печатные буквы. Рисует простой дом (квадрат и крыша), человека (2-3 части тела). Складывает бумагу более чем 1 раз. Нанизывает бусины средней величины на толстую леску или проволоку. Определяет предметы в мешке на ощупь. Прыгает на одной ноге, попеременно на одной и другой ноге, ходит по бревну. Подбрасывает вверх мяч и ловит его двумя руками. Лепит из пластилина, шнурует ботин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муникативная сфе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работать в паре со сверстникам по заданию взрослог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брать на себя роли предложенные взрослы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0" y="148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чь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обобщающие слова; называет животных и их детенышей, профессии людей, части предметов. Пересказывает знакомые сказки с помощью взрослых, читает наизусть короткие стихотворени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0" y="350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тематика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в речи слова много и один, называет круг, треугольник, квадрат, шар, куб. Умеет видеть геометрические фигуры в окружающих предметах. Правильно называет времена года, части суток. Различает правую и левую руку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амять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яет поручение в виде 2-3 последовательных действий; по просьбе взрослого запоминает до 5 слов (5 картинок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2781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5280" y="549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cc00"/>
                </a:solidFill>
                <a:latin typeface="Times New Roman"/>
              </a:rPr>
              <a:t>Психологические особенности </a:t>
            </a:r>
            <a:br>
              <a:rPr sz="3900"/>
            </a:br>
            <a:r>
              <a:rPr b="1" lang="ru-RU" sz="3900" spc="-1" strike="noStrike">
                <a:solidFill>
                  <a:srgbClr val="ffcc00"/>
                </a:solidFill>
                <a:latin typeface="Times New Roman"/>
              </a:rPr>
              <a:t>детей 4-5 л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802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Ведущая потребность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ознавательная активность; потребность в общен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Ведущая деятельность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южетно-ролевая игра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Ведущая функция 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наглядно-образное мышл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0920" y="2060640"/>
            <a:ext cx="849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5 лет - возраст «почемучки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уже ребенок начинает понимать, что предмет не так прост, как ему казалось раньше. У него появляются новые и все более глубокие познавательные интересы. Ребенок начинает изучать предметы, пытаясь проникнуть в их устройство и сущность. Но ему мало этих сведений, и он обращается к взрослым: "Почему?" "Как?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0" y="1484280"/>
            <a:ext cx="914400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 тела ребенка в среднем ежегодно увеличивается на 2 кг, рост детей замедляется до 4-5 см в год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сивно развивается костная система - становятся шире плечи у мальчиков и таз - у девочек. Позвоночник к этому возрасту уже соответствует его форме у взрослого человека, но окостенение скелета еще не заканчивается, в нем пока остается много хрящевой ткан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ановится более выносливой сердечно-сосудистая система. Увеличивается масса сердца, оно лучше приспосабливается к физическим на­грузкам. Его форма и расположение становятся почти такими же, как у взрослы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1692360" y="260280"/>
            <a:ext cx="7292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Физиологическое и психическое развит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24000" y="162864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ивается словарный запас до 2000 слов и более. В разговоре ребенок начинает пользоваться сложными фразами и пред­ложениями. Именно в этом возрасте малышу необходимо много читать, загадывать загадки: он это очень любит и легко запоминает прочитанно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ренно держит в руках карандаш, рисует животных и другие предметы, окру­жающие его. Полезно 4-летнему ребенку и раскраши­вать познавательные рисунки (например, про живот­ных). Дошколятам необходимо готовить руку к письму, развивать координацию движени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179280" y="16286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инается развитие и созревание эмоциональной сферы: чувства малыша становят­ся более глубокими, устойчивыми; прежнее радостное чувство от общения с окружающими постепенно перерастает в более сложное чувство симпатии, привязанности. Наблюдается повышенная чувствительность к реакции взрослого. Они радуются похвале и очень огорчаются замечани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память, закладываются основы мыслительной деятельности. Присмотри­тесь: малыш уже может делать самостоятельные суж­дения, высказывает свое мнение. Часто дети в этом возрасте любят игры- «угадайки» (например, он может отгадывать животное, которое изобразили ему старши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0" y="16542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 приобретать такие игры, которые помогут ему сформировать свои собственные суждения, попробовать себя в какой-то роли. Лучше всего для этих целей подходят наборы парикмахера, врача, повара, игрушечный телефон, кукольный домик с ме­белью., машины и т.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деальный воз­раст для того, чтобы сделать первые шаги на компьютерном экране. Занятие на компьютере не должно превышать 10 мин. Надо показать малышу, как вклю­чать и выключать компьютер, управлять «мышью»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жно начинать учить ребенка иностранному языку, только делать это следует в игровой форме и безо всякого принужде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96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ти больше всего  боятся потерять любовь и внимание взрослых. Часто это проявляется в том, что ребенок отказывается засыпать один, боит­ся темноты и замкнутого пространства. Ваша любовь и внимание к ребенку помогут преодолеть все страхи. Главное - больше общайтесь с малышом, вызывайте у него самые разнообразные положительные эмо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осприятие и предметно-игровая деятельность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бирает и складывает трехсоставную и четырехсоставную матрешку путем примеривания или зрительного соотнесения. Собирает пирамидку с учетом величины колец путем зрительного соотнесения. Складывает разрезную картинку из 2 и 3 частей путем зрительного соотнесени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4508640"/>
            <a:ext cx="89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нимание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имается интересной деятельностью в течение 15-20 минут. Объем -5-6 предме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4:27:55Z</dcterms:created>
  <dc:creator>людмила</dc:creator>
  <dc:description/>
  <dc:language>en-US</dc:language>
  <cp:lastModifiedBy>kaskad</cp:lastModifiedBy>
  <dcterms:modified xsi:type="dcterms:W3CDTF">2010-11-02T14:30:52Z</dcterms:modified>
  <cp:revision>9</cp:revision>
  <dc:subject/>
  <dc:title>Слайд 1</dc:title>
</cp:coreProperties>
</file>