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93F0-014C-4265-822D-CCEB92DF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C25F-D587-4FE2-9023-519734CA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70EF-4D10-4398-95FC-61255BEB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F19-9175-47B6-94F7-7BFB6C5D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01CB-C4F3-451E-B786-3430CD8F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F868-035B-4174-9FB0-B9A9BA6F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2C39-7372-4BA2-8359-6E774091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EAF7-170D-441B-A89B-4FEBD5B6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64CD-D3FF-4215-815E-C21FA860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4719-ADE0-4141-9FC2-7B45C344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5590-BB9F-41B4-9748-EC44C094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7C5F-8A63-4487-9276-0084C759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76A0-1893-4475-AB7E-F48B3450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7B18-AFE5-44A5-8608-5DF6B5E4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7C8C-FE5F-4F0A-ABAA-4DA61604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C99F-E261-4ACD-B5D7-C25D05D9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C2E8-D447-478F-8803-DACEB2CC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C88D-A3E8-4960-81B2-AAAF7664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2314-0B11-49F9-8846-EF69A97C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EE7C-4C5F-45BB-AC54-306A9D48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A1E4-7AFF-4002-BEC8-ABB56BEF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AA78-95F5-43A6-A6E5-67B96DA8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1ECC-2C54-4B90-BE88-3B95E328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FB1C-1A8B-4B85-A55E-A3B65B46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E907-0317-4944-9D75-9BF17557E6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496D-2F51-435F-B681-5FCA9C7345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684360" y="2203920"/>
            <a:ext cx="79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«СКОРО В ШКОЛУ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" descr="D:\Pictures\КАРТИНКИ\в школу.jpg"/>
          <p:cNvPicPr/>
          <p:nvPr/>
        </p:nvPicPr>
        <p:blipFill>
          <a:blip r:embed="rId1"/>
          <a:stretch/>
        </p:blipFill>
        <p:spPr>
          <a:xfrm>
            <a:off x="3132000" y="357336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Times New Roman"/>
              </a:rPr>
              <a:t>Эмоционально-волевая готовность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459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достное ожидание начало обуч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тые нравственные, эстетические чув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формированы свойства личности (сочувствие, сопереживание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мение управлять своим поведени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Times New Roman"/>
              </a:rPr>
              <a:t>Коммуникативная готовность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мение войти в детское общество, действовать совместно с другими, уступать, подчиняться, т.е. качества обеспечивающие безболезненную адаптацию ребенка, способствующие его благоприятному развит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44440"/>
            <a:ext cx="8893080" cy="188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Возрастные показатели психологической готовности шестилетних детей к школьному обучению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11280" y="278136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теллектуальное разви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896000" y="2781360"/>
            <a:ext cx="42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оизвольность (саморегуляция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468360" y="4653000"/>
            <a:ext cx="41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ичностное разви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364000" y="4581360"/>
            <a:ext cx="338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казатели сформированности учебной деятель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0"/>
          <p:cNvSpPr/>
          <p:nvPr/>
        </p:nvSpPr>
        <p:spPr>
          <a:xfrm flipH="1">
            <a:off x="2771280" y="2133720"/>
            <a:ext cx="1513080" cy="574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1"/>
          <p:cNvSpPr/>
          <p:nvPr/>
        </p:nvSpPr>
        <p:spPr>
          <a:xfrm>
            <a:off x="4284720" y="2133720"/>
            <a:ext cx="165564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2"/>
          <p:cNvSpPr/>
          <p:nvPr/>
        </p:nvSpPr>
        <p:spPr>
          <a:xfrm flipH="1">
            <a:off x="3492000" y="2133720"/>
            <a:ext cx="792360" cy="2590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4284720" y="2133720"/>
            <a:ext cx="1511280" cy="2590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Показатели интеллектуального развити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ильно описывает цветовое окружение, использует свои знания в изобразительной деятель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воспринимает дифференцированный образ мира, сообщает о результатах взрослому, умеет анализировать предложенный образец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в уме создает новые образы и воплощает их в играх, рисунках, конструкция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при выполнении действий, требующих сосредоточения, может отвлекаться от посторонних раздражител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владеет развернутой речью, передающей отвлеченную от данной ситуации информацию; развита монологическая речь; умеет рассуждать, высказывать свои соображ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запоминает учебный материал, понимая его содержа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начинает использовать известные и изобретенные им самим способы запоминания и осознавать и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решает познавательные задачи на наглядно-образном или словесно-логическом уровня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при решении познавательных задач использует мыслительные действия обобщения, классификации, схематизации, моделир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проявляется способность понимать общие принципы, связи и закономерности, лежащие в основе научного зн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происходит постепенный переход от эгоцентризма к децентрализации (способность видеть предметы и явления с разных позиций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решение многих типов интеллектуальных задач происходит в образном плане, который способствует пониманию условий зада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   </a:t>
            </a: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П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оказатели произвольности (саморегуляции)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зует и контролирует свою двигательную актив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остоятельно выполняет ряд последовательных действ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йствует по заданному наглядному образц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йствует по письменной инструкции взрослог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чиняет свои действия правил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итуации выбора отдает предпочтение тем действиям, которые соответствуют требованиям взросло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Показатели личностного развития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формирована иерархия познавательных, учебных, игровых и коммуникативных мотивов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- в ситуации выбора отдает предпочтение учебным, игровым мотива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- сформированы: положительное отношение к школе; отношение к себе как  школьнику; ко взрослому как  учителю (способность понять взрослого в качестве учителя, требованиям которого он подчиняется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- наблюдается критичность к своим возможностям и усилиям, прилагаемым для достижения результа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- наблюдается проявление адекватной, объективной оценки собственных возможностей, деятельности и ее результатов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- появляется способность к общению кооперативно-соревновательного типа и содержательной коммуникации, позволяющей понимать и учитывать действия и позиции партнеров-сверстников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- пользуется доверием взрослого, проявляет самостоятельность в разнообразных ситуациях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- обнаруживает сопереживание и взаимопонимание, общаясь с детьм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- эмоционально оценивает ситуации, непосредственно его не касающиес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Times New Roman"/>
              </a:rPr>
              <a:t>Показатели сформированности учебной деятельности: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ие слушать и слышать, внимательно и точно выполнять последовательные указания педагог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ие осмыслить учебный материал, выделять в нем главное, самостоятельно действовать по заданию педагог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ие ориентироваться на систему условий задачи, преодолевая влияние побочных, отвлекающих факторов, использовать простейшие приемы выделения отношений и зависимостей в предметах и явлениях окружающей действите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ие осуществлять контроль и самоконтроль своей деятельности и ее результа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ие оценивать результаты, исходя из предложенных педагогом критерие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виты тонкие движения рук и зрительно-моторная координац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971640" y="2205000"/>
            <a:ext cx="777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дготовка к школьному обучению - задача комплексная, охватывающая все сферы жизни ребенк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44280"/>
            <a:ext cx="850752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Что надо сделать, чтобы ребенок попал в школу подготовленным и учился хорошо, получая при этом положительные эмоции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Тест «Готовы ли Вы отдать </a:t>
            </a:r>
            <a:br>
              <a:rPr sz="4000"/>
            </a:b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ребенку в школу?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8305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0 и более баллов – необходимо снизить уровень опеки над ребенком. Дать ему контактировать со сверстниками. Займитесь закаливанием, поиграйте в школу. Если у ребенка высокий уровень тревожности обратить к специалис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042920" y="3645000"/>
            <a:ext cx="81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0 баллов – вы не уверены в успехе ребенка и это вполне естественно. Поделитесь своими опасениями с педагогом. Это поможет вам правильно подготовить ребенка к школ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187280" y="537372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 и менее баллов – вам сопутствует оптимизм и уверенность. Хороший совет для вас – не будьте беспечны и невниматель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Школьная готовност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79280" y="1700280"/>
            <a:ext cx="244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66"/>
                </a:solidFill>
                <a:latin typeface="Times New Roman"/>
              </a:rPr>
              <a:t>Физическа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6227640" y="1700280"/>
            <a:ext cx="261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66"/>
                </a:solidFill>
                <a:latin typeface="Times New Roman"/>
              </a:rPr>
              <a:t>Педагогическа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843280" y="184464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сихологиче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 flipH="1">
            <a:off x="2050560" y="981000"/>
            <a:ext cx="2521080" cy="719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4643280" y="981000"/>
            <a:ext cx="0" cy="7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4643280" y="981000"/>
            <a:ext cx="2521080" cy="719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324000" y="3284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тивацио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403280" y="4653000"/>
            <a:ext cx="27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ммуникатив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4859280" y="4653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моционально-волев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5940360" y="33577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нтеллектуаль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 flipH="1">
            <a:off x="2411280" y="2421000"/>
            <a:ext cx="2089440" cy="792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4500720" y="2421000"/>
            <a:ext cx="2158920" cy="863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 flipH="1">
            <a:off x="3276720" y="2421000"/>
            <a:ext cx="1224000" cy="21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4500720" y="2421000"/>
            <a:ext cx="1150920" cy="21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Физическая готовност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26920" y="1905120"/>
            <a:ext cx="8018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каливающие процедуры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пражнения по укреплению зрен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олос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лух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ирование правильной осан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азвитие мелких мышц ки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Times New Roman"/>
              </a:rPr>
              <a:t>Мотивационная готовност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8007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Желание ребенком принять новую социальную ро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декватная самооценка (понимание своих удач и промах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4500720" y="1413000"/>
            <a:ext cx="0" cy="720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280" y="1413000"/>
            <a:ext cx="8075880" cy="419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ак вы считаете, желание пойти учиться в школу и желание учиться – это одно и тоже или разные понятия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Times New Roman"/>
              </a:rPr>
              <a:t>Интеллектуальная готовность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560" y="2565360"/>
            <a:ext cx="8317080" cy="13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ажно, чтобы ребенок желал узнавать что-то ново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900000" y="4365720"/>
            <a:ext cx="82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ровень развития памяти, внимания, мышления, воображения, запас конкретных знаний, кругоз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4:51:01Z</dcterms:created>
  <dc:creator>людмила</dc:creator>
  <dc:description/>
  <dc:language>en-US</dc:language>
  <cp:lastModifiedBy>Пользователь Windows</cp:lastModifiedBy>
  <dcterms:modified xsi:type="dcterms:W3CDTF">2010-10-29T12:21:27Z</dcterms:modified>
  <cp:revision>5</cp:revision>
  <dc:subject/>
  <dc:title>Слайд 1</dc:title>
</cp:coreProperties>
</file>