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DAA-E3B9-41B3-8316-23210380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B3D-6414-46E6-9197-F26ED48A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3CCA3-6434-4AE0-9DFB-44AC45F0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ADF15-056B-4B23-9D7A-A7850F0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AC9B1-ED70-4997-B4A4-88584533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BA820-A26E-41B4-9FD2-5C5A702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CE72-E020-47F8-95FA-4A2B112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C0FE-83E9-4A3B-842F-D5DA4A5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60FE-56BD-4894-BBB3-8C2FF96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9C333-0306-4A3F-A59D-5F47D9DA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8DF7-7C85-494F-BAFC-92C6C6B8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51DBD-C8FE-45F3-B5D1-AF110401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1D5-21AF-4785-960B-17F039D2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52E3F-5DB5-4476-9DE2-E3B2E8DC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B84F9-03EA-42C1-9954-41EC6E8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EDF84-25F2-436E-B14B-90710B2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3A5F8-76A2-432F-AD5D-9955B01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0B73-3CC1-4107-A9DA-DB360E43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AB411-1D23-4CD4-BC28-063EC41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AD693-DF84-4560-A7C1-04C2953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4D809-1B24-4F28-9169-5216B15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C001-46D7-4FBB-9B53-4430F54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54F3F-FA6B-421D-887F-819ACA70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438-ED0F-472A-BCA6-21258EC4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ADB6F-4A05-449F-8023-7562DA7E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D4D7-99A3-48B8-8000-C9A00E05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53CB-C2E5-4873-94A2-1F21422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7225C-74E1-49CE-9FFB-7C99982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F5E72-4A4A-4FE2-B050-B65C30A0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C8561-1DEF-47A2-A6AB-91CCA018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3B929-9962-41D8-AE20-7238A1DC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2F258-5E68-4DDB-8162-FCD7DD7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88CA0-1E08-4D02-9ADC-272A724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9CA7-9B6B-411B-9794-AF8FEBE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36C-6665-45EF-9F9F-3B30693E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66DA8-25B5-4807-AF94-C7F77B38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5217A-06FF-480D-BFDF-1132307F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3BB2C-50F5-4CAF-BF77-3EC7517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1770-6566-4B14-A428-3C4DEB42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E65B1-0EBB-40BB-B47B-17EB5095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8E1A-6C66-4B69-9C97-B370F41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9217-E8D7-4938-ACDE-B44CCDC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DF84A-5E5C-43C2-80D9-EBBA358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6E9D-8E16-4252-8E6B-1754E6D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C4562-5BB3-43F7-A5A3-D5EAAAB4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1B70-8E81-4CDD-A18E-57CF8B91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3580-F1ED-4736-94C6-AC46FB7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55185-F384-4088-93B3-1D9FE0C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EB02-34E7-41B3-A1D7-52B2FDD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661E3-FD52-4460-A86B-076B4439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D7916-E12A-4F98-82AF-775E9711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664BD-706E-48E1-B137-A17C4E4E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C15C3-3393-43CF-AB35-4583709B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F6F2-0EFE-43C5-8FFB-98EC8C36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CFC4D-C14F-492D-9D1C-DF054D4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E974F-69D3-4799-B6E0-0BED424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F81D-FD7F-4F19-8DFD-699D254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249BF-8A2B-4082-8734-F1F5EA7F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377B0-7D6E-4F96-8F94-B88F9E0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8DF20-20D0-43E0-BC0E-65F5E70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9A26D-27E3-4710-8E4F-CFB8E4A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A743F-25CF-4631-9F29-B2C120A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12D37-D166-45BB-842B-DCBD90FE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34B4E-788F-4D9A-A784-B000C268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00F3F-8AE2-4462-B883-7C4D73AA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5225E-EE26-4D03-BB14-5696CA19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639B0-8F9B-4613-813F-9D0453A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E784-D884-4631-8948-DCDD0FA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793A3-23D8-45DA-87E6-3CE6865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09ADE-7225-4E96-A18B-E112537A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77E95-7256-4BF9-B778-A5DFD9C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14A2C-E4F4-4DCD-A1CB-32EBAFE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9E56D-15AE-4DC6-B4F9-BF81C04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378F2-8176-4946-A632-C287CDA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357A6-E924-41D4-AF2C-E779662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1FE0B-3130-4953-819C-B1CC8F98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D3CD4-7A6A-46EA-A1AB-2D6523C5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503A0-266C-42A0-9E9C-438C47E0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282E-4941-41C6-A01E-B38BA237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31BBA-022F-474C-94F1-ABED2F7A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9E833-5B0F-4300-91C4-793E50E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8746B-9047-4E77-A4CE-FFF50D6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871DC-1CB3-4F3F-8E6F-E6DAED47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9A721-0118-421A-B3FD-A466525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8E4D8-2C37-47FD-8132-9E642E71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32E8D-3E82-4077-94AE-C8C2723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E3B78-AEC1-41D5-A9C0-48E38A7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31C84-E356-4CE9-8E04-1D64A97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161D5-0803-45E8-B427-82660547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2B4-9A58-4E12-85B0-BA02E727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B6EF9-04D0-4AEE-80EF-2C660595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78648-C286-4CAC-9173-EBC9B0EA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FC87D-0AF8-4426-BE53-ACE594A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FA2DF-221D-4D63-B554-CEAACD9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BB31F-63C4-4FB2-A73D-14E0131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C6551-888C-4953-AEF6-5AC26F0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4032C-A066-490B-B6EB-D2D6B8B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46BA0-CCB5-466E-B452-9D1DA77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5B868-2496-4A98-89E2-0F5ED0C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DA877-5294-46FA-ACE9-8B3C530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731-8AA7-4863-9714-0EE53E8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83019-CCC4-4B42-B593-B6C0593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6D514-1FA8-42A0-8837-84273DC3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60BCE-2DF9-47A2-9FA3-F04AEA6E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13D-D03E-46CA-A483-CFA0C24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F796-670C-46C6-A594-A5F46A8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0F5B-0E02-41F2-9964-1FE5A5D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936-21F3-4A3C-9277-C22F89A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FFD-E3EB-4790-A21D-408A5F71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3558-B1B3-4C88-8AE6-AF04470C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DEE2-6B16-4781-A8F0-D6F5E2A7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E0E1-3EB2-4296-B999-A8DFE1F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13F6-D4AE-4CAB-9B86-27AEE55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A11C-5558-4710-B953-2C18F1B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7C8C-A467-4997-82AA-B5AC19C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97-B352-474D-A8F0-17925A8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54D7-C6AB-46CC-8B9A-4C3FDB15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1AC5-2795-4E29-852D-1D207EE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CD74-EA4C-42B5-A324-BD15534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AAA9-5814-44F9-99F9-7A046533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CA81-6096-4FCE-B1F3-FA97772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D378-B2B5-428A-9C96-CA003818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9345-623B-4AD9-B1DD-89A91D41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B4D1-3AC3-4BD4-B43C-29A989E1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AEA0-0A50-4DD5-AC1E-EED91D4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4718-8922-4D27-A4CF-6688AABA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917-2096-4D60-BCDF-5AF9252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07C6-5938-4B03-ABE8-18D5FF4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3EFD-DF57-4F77-BEF6-0A2AFE5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1CA9-925C-4A81-BF98-AD5635F8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AAB8-5C5B-4ECC-86E0-E2A5CCF9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858F-217B-4C32-BB68-6780D89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953E-A9E1-4345-A8D0-C3865A4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46AE-0B72-48DF-8C30-497B50B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039C-6F7E-4E88-9F79-A796B600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133F-1AF2-4183-B57E-ACB366DA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838A9-D16A-4589-A50D-CC15EC31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95E-068A-43D4-BDD4-D0EF4FD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ABDF-3181-4184-935E-D421082F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E5EE-5B21-4361-94F6-CF96221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8872-6AC4-4480-8707-A232D1A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ABD9-A3BA-49FB-A283-9D27B49F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FDB3-A49C-46FD-A250-6A17E47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FB86-430A-41E9-926A-2520C972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F688-02A8-41CF-B4EE-90D9933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59EC-6CB2-42B1-B4C5-A2C1119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5B6E-91C9-4F91-8F91-942B230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D357-0EB9-448D-AD90-90D3DDAA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C33-78E7-4A61-8F33-B4686AD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B5BB-4C44-4637-9B99-E99A1F5F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159F-C551-4A45-BDB7-1B091A65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E951-ADBA-487A-A7B5-640541A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B2EB5-302F-4770-8C7C-F9C35FD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DAC3-BE25-437F-AF38-19F88888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2116-7CAB-47F8-8572-47431E12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E9B3-E513-4258-B5B7-8D6A91F1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9956-78E1-425B-92A9-DF10CE3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B3FA-D17C-4973-B0AF-D2ACE86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F340-8006-499F-80EF-6052293C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676-A323-450F-BCFD-4839D02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9960-7AEC-4328-AE17-CAB2EDD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DECB-47AC-4876-9621-590D554C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A8EA-EB66-44E5-AB60-765F03ED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4A026-CD66-4FB4-8FB7-CCB28D2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34E9-97E1-4286-8D21-2D1E7D3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49579-1743-4811-B6B3-24BE126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426A-9263-4F0D-8959-54B7FC8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AD24-95FD-4566-BDC2-FF0F155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A198-1CB1-412B-A61B-8B0A7FD6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DD9D-AD47-4519-9503-F8A5A71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C87-FD84-4611-88F9-4CAB7BC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91D3-619E-4F15-A6DC-5539624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1C4EA-3A88-478F-93DE-BC1E718B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2549-6879-4475-BED2-7504D78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EC04-A89E-429B-B94C-AE0BC2B6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7FB5-4AEF-42D5-8F58-6F3A2784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EF34-EBF2-4EA5-AB5B-C78A1EFC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277A3-837C-461E-BF61-8407608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4552-073E-467C-B4AE-25BCD40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350C-12CA-48E3-A53B-2A61E96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7C5A5-10C2-4B74-9223-9EE9E7E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A27-DCC6-46F5-836B-E16F33D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16F6-25F0-4B89-B8DF-A6E0F01A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DBEB-6BC2-48F3-9B8F-90EB6E2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818A2-6A66-4FBF-B6EA-9C268DE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2D9B-F045-46CA-B548-09522F1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779C-7D6C-4ADE-9716-2138EAD1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4A09-9FB9-409A-8CFF-0502340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FA1BC-156C-46B4-854B-6D079AA6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7C94-ABD8-4AF3-A504-28165574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BBD9-5832-4DAE-A7F9-C342382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9898-F41D-44F7-AED7-3C5512D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B54-8B48-4602-AEBC-DA5AF4DF0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FD7-AA37-47AF-9B31-C2F62BDEDB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C1C-0865-4D08-A8B1-2CE3A5270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2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E090-9660-41EF-8F93-E3C80158FE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8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1D29-3658-455A-9660-CA6478573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A86-BB09-4E83-99E8-D00CF696E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359-F143-41FB-863D-DEF4D3F438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5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CEB-0725-415C-9380-491E7D25EA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015-5BF7-4210-AAE7-170F4ACDE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B8BF-EF40-4404-865A-D1169D2B2E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6CA-18EE-4A0F-8504-91DB4A8F4C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1BF-7436-41E2-8A09-B0E064F286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8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8EA-44C1-4BE5-92CB-ED1EC2CD2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4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E8A-D2A5-4EB5-AE9F-EF4257E560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0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6C37-F796-4DD3-BDCF-2C27A6DC2D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8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9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0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1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B51-27F6-4690-A783-8F425E6F8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990099"/>
                </a:solidFill>
                <a:latin typeface="Garamond"/>
              </a:rPr>
              <a:t>«Формирование мотивационной 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Garamond"/>
              </a:rPr>
              <a:t>готовности  дошкольников 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Garamond"/>
              </a:rPr>
              <a:t>           к обучению в школе»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1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«ДЕТСКИЙ САД ОБЩЕРАЗВИВАЮЩЕГО ВИДА С ПРИОРИТЕТНЫМ ОСУЩЕСТВЛЕНИЕМ ХУДОЖЕСТВЕННО-ЭСТЕТИЧЕСКОГО РАЗВИТИЯ ВОСПИТАННИКОВ № 12 «ЖУРАВЛИК»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Garamond"/>
              </a:rPr>
              <a:t>Исследование мотивационной сферы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179280" y="1484280"/>
          <a:ext cx="8785440" cy="5254560"/>
        </p:xfrm>
        <a:graphic>
          <a:graphicData uri="http://schemas.openxmlformats.org/drawingml/2006/table">
            <a:tbl>
              <a:tblPr/>
              <a:tblGrid>
                <a:gridCol w="2540160"/>
                <a:gridCol w="624528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Самооценка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Хухлаева Л. «Лесенка»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отивационная готовность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Банков С.А. Тестовая бесед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Гуткина Н. И. Методика «Сказка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Гуткина Н.И. Мотивационная бесед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нутренняя позиция школьника» 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Гинзбург М.Р., Пахонова И.Ю., Овчарова Р.В. Методика исследования мотивации учения у старших дошкольников и первоклассников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Лусканова  Н.Г. Проективный рисунок «Что мне нравится в школе»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Лусканова  Н.Г. Анке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 Венгер А.Н., Бугрименко Е.А. «Отношение ребенка к школе»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Психологические занятия с детьми старшей и подготовительной групп</a:t>
            </a:r>
            <a:br>
              <a:rPr sz="3600"/>
            </a:b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звитие самооценки средствами театрализации  Программа «Я и мой мир»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(старшая групп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Цикл занятий « Я и школа» (подготовительная групп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Каким будет мой учитель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Каким я буду ученико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Какими будут мои родители, когда я пойду в школ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Что я буду делать в школ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Если ты будешь драться, то я буду кусаться! Какие у меня будут друзь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Зачем мне школ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1d34"/>
                </a:solidFill>
                <a:latin typeface="Times New Roman"/>
              </a:rPr>
              <a:t>Формирование мотивационной готовности к школе</a:t>
            </a: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иваем интерес ребенка ко всему новому, отвечаем на его вопросы, даём новые сведения о знакомых предме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уем экскурсии в школу, знакомим с основными атрибутами школь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кум приходы детей-школьников в детский са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м загадки на школьную тем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м развивающие игры «Собери себе портфель в школу», «Разложи по порядку», «Что лишнее?» и д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aramond"/>
              </a:rPr>
              <a:t>Взрослый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могает ребенку в осознании его особенностей не только в деятельност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о и поведении, отношении к окружающим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могает формировать адекватную самооценку, тем самым  помогает приобрести уверенность в себе и способствует популярности  в групп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Работа с родителями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48" name="Прямоугольник 2"/>
          <p:cNvSpPr/>
          <p:nvPr/>
        </p:nvSpPr>
        <p:spPr>
          <a:xfrm>
            <a:off x="468360" y="158256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Цели организации встреч</a:t>
            </a:r>
            <a:r>
              <a:rPr b="0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огатить воспитательный опыт родителей и повысить эффект семейной социализации дошкольников в преддверии школ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Объединить всех участников преемственной связ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Активизировать чувства, переживания, действия родителей в связи с предстоящей школьной жизнью дете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Предоставить родителям практический опыт игрового партнерства с деть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379680"/>
                <a:gridCol w="576432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023f7"/>
                          </a:solidFill>
                          <a:latin typeface="Garamond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023f7"/>
                          </a:solidFill>
                          <a:latin typeface="Garamond"/>
                        </a:rPr>
                        <a:t>Тема  меро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ень открытых дверей для школьных учителей и родителей</a:t>
                      </a: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47e40"/>
                          </a:solidFill>
                          <a:latin typeface="Times New Roman"/>
                        </a:rPr>
                        <a:t>«Детский сад как социально-педагогическая среда, интегрирующая интересы семьи, школы и ребенка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Диагностика</a:t>
                      </a:r>
                      <a:r>
                        <a:rPr b="0" lang="ru-RU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47e40"/>
                          </a:solidFill>
                          <a:latin typeface="Times New Roman"/>
                        </a:rPr>
                        <a:t>1. Тест «Готовы ли вы отдать своего ребенка в школу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47e40"/>
                          </a:solidFill>
                          <a:latin typeface="Times New Roman"/>
                        </a:rPr>
                        <a:t>2. Рисуночная методика «Как я представляю своего ребенка в школе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47e40"/>
                          </a:solidFill>
                          <a:latin typeface="Times New Roman"/>
                        </a:rPr>
                        <a:t>3. Анкета «Мое мнение о школьной жизни ребенка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708360"/>
                <a:gridCol w="543564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ef2ed"/>
                          </a:solidFill>
                          <a:latin typeface="Times New Roman"/>
                        </a:rPr>
                        <a:t>Родительское собра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Тема: «Готовность детей к обучению в школе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023f7"/>
                          </a:solidFill>
                          <a:latin typeface="Times New Roman"/>
                        </a:rPr>
                        <a:t>Консультации</a:t>
                      </a:r>
                      <a:r>
                        <a:rPr b="0" lang="ru-RU" sz="3200" spc="-1" strike="noStrike">
                          <a:solidFill>
                            <a:srgbClr val="5023f7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1. «Формирование адекватной самооценки у старших дошкольников» (старшая группа)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2. «Психологическое развитие детей как необходимое условие успешности обучения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3. «О методах воздействия на ребенка в семье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43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eb092f"/>
                          </a:solidFill>
                          <a:latin typeface="Times New Roman"/>
                        </a:rPr>
                        <a:t>Семинар-практикум</a:t>
                      </a:r>
                      <a:r>
                        <a:rPr b="0" lang="ru-RU" sz="3200" spc="-1" strike="noStrike">
                          <a:solidFill>
                            <a:srgbClr val="eb092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1. «Профилактика детских неврозов» по методике Спиваковской А.С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(старшая группа)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2. «Помогаем ребенку осваивать новую социальную роль школьника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3. «С кем и как дружит мой ребенок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Консультация - практикум</a:t>
                      </a:r>
                      <a:r>
                        <a:rPr b="0" lang="ru-RU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«О развитии игровых навыков взрослых в использовании коррекционных игр и упражнений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59280"/>
                <a:gridCol w="608472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ff"/>
                          </a:solidFill>
                          <a:latin typeface="Garamond"/>
                        </a:rPr>
                        <a:t>Книжки-малышки</a:t>
                      </a:r>
                      <a:r>
                        <a:rPr b="0" lang="ru-RU" sz="3200" spc="-1" strike="noStrike">
                          <a:solidFill>
                            <a:srgbClr val="9900ff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1. Игры в квартире, во дворе и на даче для телесного здоровь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2. Игры со сказка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3. Занимательные упражнения для познавательной активности ребенка.</a:t>
                      </a:r>
                      <a:r>
                        <a:rPr b="0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97b71"/>
                          </a:solidFill>
                          <a:latin typeface="Garamond"/>
                        </a:rPr>
                        <a:t>Памятки для родителе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1.«Создание у ребенка положительного отношения к школе и формирование направленности на обучение».</a:t>
                      </a:r>
                      <a:r>
                        <a:rPr b="0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2. </a:t>
                      </a:r>
                      <a:r>
                        <a:rPr b="1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«Первые шаги по выбору школы».</a:t>
                      </a:r>
                      <a:r>
                        <a:rPr b="0" lang="ru-RU" sz="2800" spc="-1" strike="noStrike">
                          <a:solidFill>
                            <a:srgbClr val="996633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4"/>
          <p:cNvSpPr/>
          <p:nvPr/>
        </p:nvSpPr>
        <p:spPr>
          <a:xfrm>
            <a:off x="900000" y="2852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Garamond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Готовность к школе включает определенны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ровень развития мыслительной деятельности, познавательных интересов, готовности к произвольной регуляции познавательной деятельности и социальной позиции школьника»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.И. Божович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97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ff"/>
                          </a:solidFill>
                          <a:latin typeface="Garamond"/>
                        </a:rPr>
                        <a:t>Школьная готовность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cc"/>
                          </a:solidFill>
                          <a:latin typeface="Garamond"/>
                        </a:rPr>
                        <a:t>Физическ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Garamond"/>
                        </a:rPr>
                        <a:t>Педагогическ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Психологическа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отивационная</a:t>
                      </a:r>
                      <a:r>
                        <a:rPr b="0" lang="ru-RU" sz="3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0680e"/>
                          </a:solidFill>
                          <a:latin typeface="Garamond"/>
                        </a:rPr>
                        <a:t>Интеллектуаль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33"/>
                          </a:solidFill>
                          <a:latin typeface="Garamond"/>
                        </a:rPr>
                        <a:t>Коммуникатив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ff"/>
                          </a:solidFill>
                          <a:latin typeface="Garamond"/>
                        </a:rPr>
                        <a:t>Эмоционально-волев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6" name="Line 165"/>
          <p:cNvSpPr/>
          <p:nvPr/>
        </p:nvSpPr>
        <p:spPr>
          <a:xfrm flipH="1">
            <a:off x="2771280" y="1125360"/>
            <a:ext cx="1729080" cy="2160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Line 166"/>
          <p:cNvSpPr/>
          <p:nvPr/>
        </p:nvSpPr>
        <p:spPr>
          <a:xfrm>
            <a:off x="4500720" y="1125360"/>
            <a:ext cx="1871640" cy="2160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Line 167"/>
          <p:cNvSpPr/>
          <p:nvPr/>
        </p:nvSpPr>
        <p:spPr>
          <a:xfrm>
            <a:off x="4572000" y="1125360"/>
            <a:ext cx="0" cy="14400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Line 168"/>
          <p:cNvSpPr/>
          <p:nvPr/>
        </p:nvSpPr>
        <p:spPr>
          <a:xfrm flipH="1">
            <a:off x="2627280" y="3141720"/>
            <a:ext cx="1944720" cy="358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Line 169"/>
          <p:cNvSpPr/>
          <p:nvPr/>
        </p:nvSpPr>
        <p:spPr>
          <a:xfrm>
            <a:off x="4572000" y="3141720"/>
            <a:ext cx="1944720" cy="358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Line 173"/>
          <p:cNvSpPr/>
          <p:nvPr/>
        </p:nvSpPr>
        <p:spPr>
          <a:xfrm flipH="1">
            <a:off x="4140000" y="3141720"/>
            <a:ext cx="431640" cy="187164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Line 175"/>
          <p:cNvSpPr/>
          <p:nvPr/>
        </p:nvSpPr>
        <p:spPr>
          <a:xfrm>
            <a:off x="4572000" y="3213000"/>
            <a:ext cx="576360" cy="18003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Психологическая готовность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к школьному обучению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Garamond"/>
              </a:rPr>
              <a:t>Мотивационное развитие ребенка</a:t>
            </a:r>
            <a:r>
              <a:rPr b="0" lang="ru-RU" sz="3600" spc="-1" strike="noStrike">
                <a:solidFill>
                  <a:srgbClr val="99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Garamond"/>
              </a:rPr>
              <a:t>Произвольность поведения</a:t>
            </a:r>
            <a:r>
              <a:rPr b="0" lang="ru-RU" sz="3600" spc="-1" strike="noStrike">
                <a:solidFill>
                  <a:srgbClr val="99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Garamond"/>
              </a:rPr>
              <a:t>Произвольность интеллектуальной сферы</a:t>
            </a:r>
            <a:r>
              <a:rPr b="0" lang="ru-RU" sz="3600" spc="-1" strike="noStrike">
                <a:solidFill>
                  <a:srgbClr val="99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Garamond"/>
              </a:rPr>
              <a:t>Показатели мотивационного развития ребенка</a:t>
            </a:r>
            <a:r>
              <a:rPr b="1" lang="ru-RU" sz="4000" spc="-1" strike="noStrike">
                <a:solidFill>
                  <a:srgbClr val="dcf1f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ая мотивации (непосредственно связана с учебой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ность в интеллектуальной активности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владении новыми умениями, навыками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оциальная мотивация: потребн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и взрослыми людьми на новом уров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пособность адекватно оценивать себ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33"/>
                </a:solidFill>
                <a:latin typeface="Castellar"/>
              </a:rPr>
              <a:t>Мотивационная готовность к школьному обучению складывается из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ожительных представлений о школе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желание учиться в школе, чтобы узнать , уметь много нового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формированной позиции школьник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Мотивационная готовность включает в себя такое психологическое качество,  как самооценка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амооценка дошкольника формируется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д воздействием похвалы взрослого, их оценок достижений ребенк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д влиянием чувства самостоятельности и успехов, которые ребенок переживает в разных видах деятельности.</a:t>
            </a:r>
            <a:br>
              <a:rPr sz="2400"/>
            </a:br>
            <a:br>
              <a:rPr sz="4000"/>
            </a:br>
            <a:endParaRPr b="1" lang="en-US" sz="2400" spc="-1" strike="noStrike">
              <a:solidFill>
                <a:srgbClr val="dcf1f4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Garamond"/>
              </a:rPr>
              <a:t>Результаты исследования мотивационной сферы </a:t>
            </a:r>
            <a:r>
              <a:rPr b="1" lang="ru-RU" sz="3600" spc="-1" strike="noStrike">
                <a:solidFill>
                  <a:srgbClr val="ff6600"/>
                </a:solidFill>
                <a:latin typeface="Garamond"/>
              </a:rPr>
              <a:t>(методика «Сказка»)</a:t>
            </a: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929" name="Object 3"/>
          <p:cNvGraphicFramePr/>
          <p:nvPr/>
        </p:nvGraphicFramePr>
        <p:xfrm>
          <a:off x="144360" y="1598760"/>
          <a:ext cx="8898120" cy="51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598760"/>
                    <a:ext cx="8898120" cy="51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aramond"/>
              </a:rPr>
              <a:t>Внутренняя позиция школьника</a:t>
            </a: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932" name="Object 4"/>
          <p:cNvGraphicFramePr/>
          <p:nvPr/>
        </p:nvGraphicFramePr>
        <p:xfrm>
          <a:off x="0" y="1417680"/>
          <a:ext cx="932508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932508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Garamond"/>
              </a:rPr>
              <a:t>Работа с детьми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38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сследование мотивационной сфе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067280" y="2276280"/>
            <a:ext cx="48355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aramond"/>
              </a:rPr>
              <a:t>Коррекционно-развивающие занятия с детьми старшего дошкольного возрас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Line 5"/>
          <p:cNvSpPr/>
          <p:nvPr/>
        </p:nvSpPr>
        <p:spPr>
          <a:xfrm>
            <a:off x="4427640" y="1413000"/>
            <a:ext cx="1800000" cy="143964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Line 6"/>
          <p:cNvSpPr/>
          <p:nvPr/>
        </p:nvSpPr>
        <p:spPr>
          <a:xfrm flipH="1">
            <a:off x="2771640" y="1413000"/>
            <a:ext cx="1656000" cy="143964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Пользователь Windows</cp:lastModifiedBy>
  <dcterms:modified xsi:type="dcterms:W3CDTF">2010-10-29T12:08:12Z</dcterms:modified>
  <cp:revision>33</cp:revision>
  <dc:subject/>
  <dc:title>PowerPoint Presentation</dc:title>
</cp:coreProperties>
</file>