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481F-F2E3-404D-8E72-14742CCC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7B87-D34A-422B-87C7-71B8409C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B10-AD6C-41D6-878C-D2A1B66B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C8E-FF0A-4967-BC96-7EEC859B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C0D9-D080-4C82-B896-5A27A2F0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11F6-D1AA-47F5-A2A5-290060A5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2265-C598-47ED-B117-93DC4CD9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1A16-FEDC-4CFF-8C10-971B592D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9618-881C-4E0A-96ED-7E98EC33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0636-66AF-4AC6-BDCE-EF4DB471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61C3-2773-4815-B3EB-619A8DDE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89A-692E-4718-9B76-DC041A64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BABC-1471-4549-8AB7-D9D4355C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4197-7AD5-4027-A93C-889CCD53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89E6-579B-4E46-824A-CE45AB5A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6325-E3A4-413C-BAA9-2248744F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EC20-697A-47A1-B875-06DCC8E7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EBD-C376-4E93-87F7-7D22E313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7F1-CBB0-49B9-82A7-856EE425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0DF-A514-46F8-AB52-6BCEA457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E2D-90DB-4E94-A8FF-D7B11149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B5D0-B3C5-44DA-9F40-91D36626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5D6-F1A9-4964-9D2C-42B1D635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199-0F8A-45D1-A5DC-5AA9AB5C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91AA-FB45-41E5-A85D-507169185D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E779-57E3-4FC2-99F8-C84A62791A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2349360"/>
            <a:ext cx="80661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0066"/>
                </a:solidFill>
                <a:latin typeface="Times New Roman"/>
              </a:rPr>
              <a:t>«Мы такие разные»</a:t>
            </a:r>
            <a:endParaRPr b="0" lang="en-US" sz="6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3995640" y="83592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«Добро должно быть с кулаками"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60896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Причины детской агрессивности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7533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1.  «Семейные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99"/>
              </a:spcBef>
              <a:buClr>
                <a:srgbClr val="9966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«Личные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99"/>
              </a:spcBef>
              <a:buClr>
                <a:srgbClr val="9966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«Ситуативны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99"/>
              </a:spcBef>
              <a:buClr>
                <a:srgbClr val="9966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Социально-биологическ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99"/>
              </a:spcBef>
              <a:buClr>
                <a:srgbClr val="9966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Биолог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99"/>
              </a:spcBef>
              <a:buClr>
                <a:srgbClr val="9966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Половые, психолог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99"/>
              </a:spcBef>
              <a:buClr>
                <a:srgbClr val="996633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Социа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feb7b"/>
                </a:solidFill>
                <a:latin typeface="Times New Roman"/>
              </a:rPr>
              <a:t>«Семейные» прич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еприятие детей родителям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Безразличие или враждебность со стороны родителе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азрушение эмоциональных связей в семь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еуважение к личности ребенк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резмерный контроль или полное отсутствие ег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збыток или недостаток внимания со стороны родителе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прет на физическую активность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692280"/>
            <a:ext cx="7620120" cy="83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66"/>
                </a:solidFill>
                <a:latin typeface="Times New Roman"/>
              </a:rPr>
              <a:t>«Личные» причины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сознательное ожидание опас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уверенность в собственной безопас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ый отрицательный опы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моциональная нестабиль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вольство соб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ная раздражитель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увство ви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imes New Roman"/>
              </a:rPr>
              <a:t>Ситуативные причины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хое самочувствие, переутом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ияние продуктов пит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ияние шума, вибрации, тесноты, температуры воздух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ип темперамента и особенности характер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608960" cy="18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9933"/>
                </a:solidFill>
                <a:latin typeface="Times New Roman"/>
              </a:rPr>
              <a:t>Социально-биологические, биологические, половые, психологические, социальные  причи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2565360"/>
            <a:ext cx="762012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грессивные реакции детей бывают обусловлены установками, предрассудками и системой ценностей значимых для них взрослы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76820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ff"/>
                </a:solidFill>
                <a:latin typeface="Times New Roman"/>
              </a:rPr>
              <a:t>Основными причинами проявлений детской агрессивности являются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7533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стремление привлечь к себе внимание сверстни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стремление получить желанный результа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стремление быть главны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защита и месть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желание ущемить достоинство другого с целью подчеркнуть свое превосход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8204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Формы агрессивного поведение детей по И. А. Фурманову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341000"/>
            <a:ext cx="7826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694b6"/>
                </a:solidFill>
                <a:latin typeface="Times New Roman"/>
              </a:rPr>
              <a:t>А. Социализированна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обычно не имеют психических нарушений, у них низкий моральный и волевой уровень регуляции поведения, нравственная нестабильность, игнорирование социальных норм, слабый самоконтроль. Они обычно используют агрессию для привлечения внимания, чрезвычайно ярко выражают свои агрессивные эмоции (кричат, громко ругаются, разбрасывают вещи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694b6"/>
                </a:solidFill>
                <a:latin typeface="Times New Roman"/>
              </a:rPr>
              <a:t>Б. Несоциализиров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обычно страдают какими-нибудь психическими расстройствами (эпилепсия, шизофрения, органическое поражение головного мозга) с негативными эмоциональными состояниями (тревога, страх, дисфория). Отрицательные эмоции и сопровождающая их враждебность могут возникать спонтанно, а могут быть реакцией на психотравмирующую или стрессовую ситуацию. Личностными чертами таких детей являются высокая тревожность, эмоциональное напряжение, склонность к возбуждению и импульсивному поведению. Внешне это проявляется чаще всего прямой вербальной и физической агресси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60896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cc"/>
                </a:solidFill>
                <a:latin typeface="Times New Roman"/>
              </a:rPr>
              <a:t>Типы агрессии у детей и способы построения отношений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268280"/>
            <a:ext cx="77533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перактивно-агрессивный ребенок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вигательно расторможенным детям труднее быть дисциплинированными и послушными. Такие дети, воспитываясь в семье по типу "кумира" или в атмосфере вседозволенности, попадая в коллектив сверстников, могут становиться агрессивны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Агрессивно-обидчивый и истощаемый ребен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идчивость ребенка может быть связана не только с недостатками в воспитании или трудностями обучения, но и с болезнью роста, особенностями созревания нервной системы и организма. Повышенная чувствительность, раздражительность, ранимость могут провоцировать агрессивное поведени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Агрессивно-бесчувственный ребен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ть дети, у которых способность к эмоциональному отклику, сопереживанию, сочувствию к другим нарушена. Причины могут быть в неблагоприятных условиях семейного воспитания, нарушениях интеллектуального развития ребенка, а также в чертах эмоциональной холодности, черствости, уплощенности, повышенной аффективной (эмоциональной) возбудимости, которые передаются от родителей или близких ребен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380880"/>
            <a:ext cx="757080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304"/>
                </a:solidFill>
                <a:latin typeface="Times New Roman"/>
              </a:rPr>
              <a:t>4. Агрессивный ребенок с оппозиционно-вызывающим поведением.</a:t>
            </a:r>
            <a:br>
              <a:rPr sz="2000"/>
            </a:b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Если ребенок часто грубит, но не всем, а только родителям, знакомым ему людям, то, наверное, в ваших взаимоотношениях что-то не так: вы редко занимаетесь и общаетесь с ребенком; вы уже не образец для подражания, как раньше; ребенку скучно, нечем заняться, и он переносит на вас собственное настроение и проблемы, перекладывает ответственность за свое поведени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221304"/>
                </a:solidFill>
                <a:latin typeface="Times New Roman"/>
              </a:rPr>
              <a:t>5. Агрессивно-боязливый ребенок.</a:t>
            </a:r>
            <a:br>
              <a:rPr sz="2000"/>
            </a:b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Враждебность, подозрительность могут быть средством защиты ребенка от мнимой угрозы, "нападения".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826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сихологические особенности провоцирующие агрессивное поведение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8640"/>
            <a:ext cx="7620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недостаточное развитие интеллекта и коммуникативных навы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сниженный уровень саморегуляц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неразвитость игровой деятельн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сниженную самооценк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нарушения в отношениях со сверстник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040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д агрессивностью понимают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 действия ребенка, направленные на нанесение физического или психического вреда (ущерба) другому человеку или самому себе, а также животным или материальным объектам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грессия</a:t>
            </a: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 - это необходимое и естественное свойственное чувство для каждого  человека, т.е. модель поведения, которая закладывается еще в раннем детстве. Абсолютное отсутствие агрессивности и становление характера и чрезмерная агрессивность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1258920" y="3828960"/>
            <a:ext cx="7416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571680"/>
                <a:tab algn="l" pos="6858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4000" y="2349000"/>
            <a:ext cx="8459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грессия -  фрустрация - торможение - замеще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ccff"/>
                </a:solidFill>
                <a:latin typeface="Times New Roman"/>
              </a:rPr>
              <a:t>Методы исследовани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7533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ндартизированные наблюдения за эмоциональными проявлениями дошкольни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ст тревожности Р. Темм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исуночные тес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“Несуществующее животное”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 “Дом, дерево, человек”; в) “ Кинетический рисунок семьи”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) Тест рук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) Методика Басса - Дар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тервьюирование педагогов и родител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Источники деструктивного поведения: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чувства страха, недоверия к окружающему миру, угрожающие безопасности ребен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столкновение ребенка с невыполнением его желаний, запретами на удовлетворение определенных потребност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отстаивание своей личности, территории, обретение независимости и самосто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Какие же дети вырастают агрессивными наиболее часто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льчи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Кумиры семьи", выросшие без отцов в сплошном женском окружении (мамы, бабушки, тетушки, кузины и пр.). Примером может служить М. Ю. Лермонтов, который воспитывался бабушкой и ее окружением, большая часть которого была представлена женским полом. Мальчик вырос великим поэтом, но при этом довольно возбудимым, упрямым и неуступчивым человеком, склонным к конфликтам. Во время одного из них он в запальчивости оскорбительно высказался о сестре Мартынова, что и спровоцировало роковую дуэл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росшие в семьях с жестким авторитарным отцом и мягкой, уступчивой, непоследовательной матерью. Используя механизм идентификации с отцом, подросток будет противостоять всем, в том числе и самому отцу. И если тот мальчишку не сломает, то он вырастет таким же жестким и авторитарны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8077320" cy="63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Девочки:</a:t>
            </a:r>
            <a:br>
              <a:rPr sz="2800"/>
            </a:b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А. В семье с жесткой авторитарной матерью при мягком, уступчивом отце. Срабатывает механизм идентификации с матерью. Такой тип формирования хорошо отражен в целом ряде сказок "Золушке" и "Морозко". Матери девочек - женщины властные, самолюбивые, напористые до грубости. Мамаши находились в повторном браке за слабыми, вялыми, спокойными и уступчивыми мужчинами. Наблюдая за поведением матерей, девочки тоже приобрели черты агрессивности, грубости, конфликтности, правда, к этому еще выросли лентяйками, неряхами и неумехами.</a:t>
            </a:r>
            <a:br>
              <a:rPr sz="2000"/>
            </a:b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Б. Предоставленные сами себе и самостоятельно пробивающиеся в жизни, в этих случаях агрессивность служит механизмом выживания и обычно носит инструментальный характер. Например, Пеппи-Длиный Чулок Матери у нее не было, примером мог служить лишь шебутной, безбашенный и напористый папа Эфраим, который ею интересовался мало и девочке пришлось приспосабливаться к окружающему миру самой, используя отцовский пример и вырабатывая в себе активность и агрессивность.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Направления коррекционной работ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7533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с гнев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учать ребенка общепринятым и неопасным для окружающих способам выражения своего гне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учение самоконтрол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рабатывать у ребенка навыки владения собой в ситуациях, провоцирующих вспышки гнева или тревожнос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с чувств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ь осознавать собственные эмоции и эмоции других людей, формировать способность к сопереживанию, сочувствию, доверию окружающи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структивные навыки общения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ать адекватным поведенческим реакциям в проблемной ситуации, способам выхода из конфли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cc"/>
                </a:solidFill>
                <a:latin typeface="Times New Roman"/>
              </a:rPr>
              <a:t>Работа с гневом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гровые прием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Недружеский шарж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Мешочек криков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"Листок гне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ушка для пи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Рубка дров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ы с песк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ff"/>
                </a:solidFill>
                <a:latin typeface="Times New Roman"/>
              </a:rPr>
              <a:t>Обучение самоконтролю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гровые прием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игналы гне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Гнев на сцен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осчитал до десяти я и решил...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Работа с чувствам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гровые прием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Знатоки чувств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Отгадай, что я почувствовал?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трана чувств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Чувства на сцене» или «Гнев на сцен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казы по фотография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cc00"/>
                </a:solidFill>
                <a:latin typeface="Times New Roman"/>
              </a:rPr>
              <a:t>Конструктивные навыки общения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8264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Игровые прием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ловарик добрых слов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лепой и поводыр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илот и диспетчер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ортрет агрессивного челове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ойми без слов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Попросись на ночлег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Критикуй, не обижая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Виды агресс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907560"/>
            <a:ext cx="77533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Гетероагресси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направленность на окружающих: убийства, изнасилования, нанесение побоев, угрозы, оскорбления, ненормативная лексика и т.д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Аутоагресси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направленность на себя: самоуничижение вплоть до самоубийства, саморазрушающее поведение, психосоматические заболева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Реактивная агресси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представляет собой ответную реакцию на какой-то внешний раздражитель (ссора, конфликт и пр.)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Спонтанная агресси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появляется без видимой причины, обычно под влиянием каких-то внутренних импульсов (накопление отрицательных эмоций, неспровоцированная агрессия при психических заболеваниях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26560" y="1844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0000cc"/>
                </a:solidFill>
                <a:latin typeface="Times New Roman"/>
              </a:rPr>
              <a:t>Агрессия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- это не только деструктивное поведение, причиняющее вред окружающим, приводя к разрушительным и негативным последствиям,  это огромная сила, которая может служить источником энергии для более конструктивных целей, если уметь ей управлять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000" spc="-1" strike="noStrike">
                <a:solidFill>
                  <a:srgbClr val="0000cc"/>
                </a:solidFill>
                <a:latin typeface="Times New Roman"/>
              </a:rPr>
              <a:t>Задача родителе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- научить ребенка контролировать свою агрессию и использовать ее в мирных целях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987640" y="836640"/>
            <a:ext cx="38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Помните!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817236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500" spc="-1" strike="noStrike" u="sng">
                <a:solidFill>
                  <a:srgbClr val="221304"/>
                </a:solidFill>
                <a:uFillTx/>
                <a:latin typeface="Times New Roman"/>
              </a:rPr>
              <a:t>Прямая агрессия</a:t>
            </a:r>
            <a:r>
              <a:rPr b="0" lang="ru-RU" sz="2500" spc="-1" strike="noStrike">
                <a:solidFill>
                  <a:srgbClr val="221304"/>
                </a:solidFill>
                <a:latin typeface="Times New Roman"/>
              </a:rPr>
              <a:t> - направляется непосредственно на объект, вызывающий раздражение, тревогу или возбуждение: открытое хамство, применение физической силы или угрозы расправы и пр.</a:t>
            </a:r>
            <a:br>
              <a:rPr sz="2500"/>
            </a:br>
            <a:r>
              <a:rPr b="1" lang="ru-RU" sz="2500" spc="-1" strike="noStrike" u="sng">
                <a:solidFill>
                  <a:srgbClr val="221304"/>
                </a:solidFill>
                <a:uFillTx/>
                <a:latin typeface="Times New Roman"/>
              </a:rPr>
              <a:t>Косвенная агрессия</a:t>
            </a:r>
            <a:r>
              <a:rPr b="1" lang="ru-RU" sz="2500" spc="-1" strike="noStrike">
                <a:solidFill>
                  <a:srgbClr val="221304"/>
                </a:solidFill>
                <a:latin typeface="Times New Roman"/>
              </a:rPr>
              <a:t> -</a:t>
            </a:r>
            <a:r>
              <a:rPr b="0" lang="ru-RU" sz="2500" spc="-1" strike="noStrike">
                <a:solidFill>
                  <a:srgbClr val="221304"/>
                </a:solidFill>
                <a:latin typeface="Times New Roman"/>
              </a:rPr>
              <a:t> обращается на объекты, непосредственно не вызывающие возбуждение и раздражение, но более удобные для проявления агрессии</a:t>
            </a:r>
            <a:br>
              <a:rPr sz="2500"/>
            </a:br>
            <a:r>
              <a:rPr b="1" lang="ru-RU" sz="2500" spc="-1" strike="noStrike" u="sng">
                <a:solidFill>
                  <a:srgbClr val="221304"/>
                </a:solidFill>
                <a:uFillTx/>
                <a:latin typeface="Times New Roman"/>
              </a:rPr>
              <a:t>Вербальная</a:t>
            </a:r>
            <a:r>
              <a:rPr b="0" lang="ru-RU" sz="2500" spc="-1" strike="noStrike">
                <a:solidFill>
                  <a:srgbClr val="221304"/>
                </a:solidFill>
                <a:latin typeface="Times New Roman"/>
              </a:rPr>
              <a:t> - выражена в словесной форме: угрозы, оскорбления, содержание которых прямо говорит о наличии отрицательных эмоций и возможности нанесения морального и материального ущерба противнику.</a:t>
            </a:r>
            <a:r>
              <a:rPr b="0" lang="ru-RU" sz="2500" spc="-1" strike="noStrike">
                <a:solidFill>
                  <a:srgbClr val="221304"/>
                </a:solidFill>
                <a:latin typeface="Times New Roman"/>
              </a:rPr>
              <a:t>	</a:t>
            </a:r>
            <a:br>
              <a:rPr sz="2500"/>
            </a:br>
            <a:r>
              <a:rPr b="1" lang="ru-RU" sz="2500" spc="-1" strike="noStrike" u="sng">
                <a:solidFill>
                  <a:srgbClr val="221304"/>
                </a:solidFill>
                <a:uFillTx/>
                <a:latin typeface="Times New Roman"/>
              </a:rPr>
              <a:t>Экспрессивная</a:t>
            </a:r>
            <a:r>
              <a:rPr b="0" lang="ru-RU" sz="2500" spc="-1" strike="noStrike">
                <a:solidFill>
                  <a:srgbClr val="221304"/>
                </a:solidFill>
                <a:latin typeface="Times New Roman"/>
              </a:rPr>
              <a:t> - проявляется невербальными средствами: жестами, мимикой, интонацией голоса. </a:t>
            </a:r>
            <a:r>
              <a:rPr b="1" lang="ru-RU" sz="2500" spc="-1" strike="noStrike" u="sng">
                <a:solidFill>
                  <a:srgbClr val="221304"/>
                </a:solidFill>
                <a:uFillTx/>
                <a:latin typeface="Times New Roman"/>
              </a:rPr>
              <a:t>Физическая</a:t>
            </a:r>
            <a:r>
              <a:rPr b="0" lang="ru-RU" sz="2500" spc="-1" strike="noStrike">
                <a:solidFill>
                  <a:srgbClr val="221304"/>
                </a:solidFill>
                <a:latin typeface="Times New Roman"/>
              </a:rPr>
              <a:t> - прямое применение силы для нанесения морального и физического ущерба противнику.</a:t>
            </a:r>
            <a:endParaRPr b="0" lang="en-US" sz="25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Times New Roman"/>
              </a:rPr>
              <a:t>Формы проявления агресс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412640"/>
            <a:ext cx="76201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cc3399"/>
                </a:solidFill>
                <a:latin typeface="Times New Roman"/>
              </a:rPr>
              <a:t>1. недеструктивная агрессив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механизм удовлетворения желания, достижения цели и способности к адаптации. Она побуждает к конкуренции в окружающем мире, защите своих прав и интересов и служит для развития познания и способности положиться на себ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99"/>
                </a:solidFill>
                <a:latin typeface="Times New Roman"/>
              </a:rPr>
              <a:t>2. враждебная деструктивность</a:t>
            </a:r>
            <a:r>
              <a:rPr b="0" lang="ru-RU" sz="2400" spc="-1" strike="noStrike">
                <a:solidFill>
                  <a:srgbClr val="6feb7b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6feb7b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ание причинить боль, получить удовольствие от этого. Результатом такого поведения обычно бывают конфликты, становление агрессивности как черты личности и снижение адаптивных возможностей ребенка. Деструктивность агрессии дети начинают чувствовать уже в раннем возрасте и стараются управлять е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feb7b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6feb7b"/>
                </a:solidFill>
                <a:latin typeface="Arial Black"/>
              </a:rPr>
              <a:t>Агрессия бывает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980640"/>
            <a:ext cx="78980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растная агресс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 1 года 8 месяцев до 3 лет (желание ребенка делать все самостоятельно: ходить, одеваться, кушать, выбирать одежду и блюда по своему вкусу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 3 до 4 лет (период осознания своей обособленности, непохожести и неповторимости, когда ребенок стремится защитить и отстоять свое собственное «Я»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 12 до 16 лет (защита неприкосновенности и целостности своего "я", или ответная реакция на разрушительные воздействия, направленные на него (как внешние, так и внутренние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туативная агресс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ное действие в момент опасности, как защита от внешней агрессии, как средство самозащит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грессивность как следствие разочарован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йственна детям от 2 до 8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внимание родителей к чувствам и переживаниям ребенка воспринимается им еще и как отрицание его собственной значимос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7708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3b333"/>
                </a:solidFill>
                <a:latin typeface="Times New Roman"/>
              </a:rPr>
              <a:t>Причины влияющие на формирование базового отношения к миру, безопасность, либо недоверие, страх и тревог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628280"/>
            <a:ext cx="7826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ушевное состояние матери в период беременности и после род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явление родителями безусловной любви к своему ребенку, либо отсутствие таково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соры взрослых между собо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Взрослые вынуждены в некоторых ситуациях запрещать ребенку вести себя определенным образом или не всегда родители могут или хотят удовлетворять бесконечные желания своих дет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дители  должны научиться грамотно устанавливать запреты и, в случае необходимости, применять наказа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авной потребностью любого ребенка является необходимость чувствовать, что его любят и ценя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Установление личных границ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рождается полностью зависимым от своих родителей, и его основная задача на протяжении всей жизни - это обретение независимости (в первую очередь, от родителей) и самостоятельнос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5614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Как нужно вести себя родителям в случае проявления детьми агрессивного поведения и чтобы предотвратить  нежелательно поведение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Проявление со стороны родителей безусловной любви к ребенку в любой ситу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Родители, должны контролировать собственные агрессивные импульсы. Помните! Дети учатся приемам социального взаимодействия, путем наблюдения за поведением окружающих людей (в первую очередь, родителей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Нельзя подавлять проявление агрессии ребенком, иначе подавленные агрессивные импульсы наносят  вред его здоровью. Научите ребенка выражать свои враждебные чувства социально приемлемым способом: словом или в рисунке, лепке или при помощи игрушек, или действий, безобидных для окружающих, в спорт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Если ребенок капризничает, злится, кричит, бросается на вас с кулаками - обнимите его, прижмите к себе. Постепенно он успокоится, придет в себ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Покажите ребенку конечную неэффективность агрессивного повед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042920" y="260280"/>
            <a:ext cx="7777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 Установите  социальные правила поведения в доступной для ребенка форме. Например, "мы никого не бьем, и нас никто не бьет"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забывайте хвалить ребенка за старательность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едовать с ребенком о его поступке надо без свидетелей (класса, родственников, других детей и др.), старайтесь  использовать меньше эмоциональных слов (стыдно и др.)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о исключить ситуации, провоцирующие негативное поведение ребенк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борьбе с агрессией можно прибегнуть к помощи сказкотерапии. При проявлении  признаки агрессивности, сочините вместе с ним рассказ, в котором этот ребенок будет главным героем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1.  Предоставьте  ребенку возможность получить эмоциональную разрядку в игре, спорте или сделайте специальную "сердитую подушку" для снятия стресса. Если ребенок чувствует раздражение, он может поколотить эту подушку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0-10-29T12:23:52Z</dcterms:modified>
  <cp:revision>64</cp:revision>
  <dc:subject/>
  <dc:title>PowerPoint Presentation</dc:title>
</cp:coreProperties>
</file>